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53FD35-280F-46A4-A6BD-239052BC9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5AF1C5-9598-47A6-9BE1-F6C9B24CBA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2557C-C7A1-41A0-A0A1-52024F9B84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20803-ADDE-408B-9E47-87FE2103BC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61BF1-C100-40F9-B3E1-1568752424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D8D27-2A01-47D3-BACC-D54A3F2763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B7A54-A901-460C-AC2A-9E68C4791D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9a12a"/>
                </a:solidFill>
                <a:latin typeface="Trebuchet MS"/>
              </a:rPr>
              <a:t>Dugo se smatralo da fluoridi ostvaruju svoj zaštitni efekat pre svega zahvaljujući ugradnji u latice kristala u vreme amelogeneze, stvarajući gleđ otporniju na karij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113B48-C097-4E86-BFF4-F7713DA950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4F2CD-9D6D-4263-AB7F-9615B9B205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BC53C-6D5D-4943-BA70-ADAADF76E8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EB80C-FEE9-4953-BE68-B78CD64F2B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5B367F-2834-47BC-8DBB-F41EA0158E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D958A-7BAF-4F4D-BE0D-F5F29AA41E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46C9E-9678-425D-8F99-3B8F0E4E31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A6FC6-7A71-45AF-ADFE-8086CF792F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444EF-FA6E-4550-9972-29C53AF478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8BCD8-C92C-4325-9EC5-B34E359546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3F840-5C8D-4788-A5FF-8158B56283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97A11-6426-481F-B838-372C965167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Preporuka Evropske Akademije za Dečju stomatologij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veti o održavanje oralne higijene + savet o ishrani + lokalna upotreba fluorida + zalivanje fisu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FF9DE-B64F-4A80-8E6D-77CB6B7B7D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57F0A-8030-4788-A635-45BE4B726D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17D3B-6D5F-4A1C-865A-FF67DC302F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4761A-02E3-467A-9C67-BD88C48363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697C7F-B9D6-49DB-99A0-CC032B8B19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2BDB43-F61A-4904-9B27-AF2170B434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BFDE8-0F28-43BE-B69A-BA7881EE64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9a12a"/>
                </a:solidFill>
                <a:latin typeface="Trebuchet MS"/>
              </a:rPr>
              <a:t>Prvi mehanizam zaštite oralne mukoze je pločasto slojeviti epitel koji u vidu redova gusto spakovanih delija sprečava prodor neželjenih makromolekula, nutritivnog i bakterijskog porekl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9a12a"/>
                </a:solidFill>
                <a:latin typeface="Trebuchet MS"/>
              </a:rPr>
              <a:t>Pritisak koji se razvija tokom mastikacije je različit u pojedinim regionima zbog čega se mukoza histološki deli n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DE5B-F5D5-48CD-80E9-443761E7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9E7-5F9C-4463-A9F4-B7E68BB2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0E85-F6ED-4A6D-9B85-43BBA9B8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66E0-334C-4402-9D0F-8F37ECF7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400A-D8DC-4AEC-8F40-DD2FF556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B0E0-39F8-4825-9B9D-152FBA14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BE0F-F1D6-4CCF-AB3D-436C3080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DC59-5FC9-4B5F-AB83-2B5D3032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75C8-8A24-419A-A807-1FD54E8A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AE27-A482-4895-807F-CDAAC706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D0AB-0D8B-42EC-8EEF-2DC6877B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B49-9A0D-4563-8E51-30A4D5A5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A8E24F-40A3-449C-9861-47BC1D5E95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3133800"/>
            <a:ext cx="9713880" cy="19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800" spc="-1" strike="noStrike">
                <a:solidFill>
                  <a:srgbClr val="ffffff"/>
                </a:solidFill>
                <a:latin typeface="Trebuchet MS"/>
              </a:rPr>
              <a:t>FLUORIDI I</a:t>
            </a:r>
            <a:br>
              <a:rPr sz="4800"/>
            </a:br>
            <a:r>
              <a:rPr b="1" lang="sr-Latn-CS" sz="4800" spc="-1" strike="noStrike">
                <a:solidFill>
                  <a:srgbClr val="ffffff"/>
                </a:solidFill>
                <a:latin typeface="Trebuchet MS"/>
              </a:rPr>
              <a:t>ORALNO ZDRAVLJE</a:t>
            </a: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3964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83720" y="2957400"/>
            <a:ext cx="609840" cy="2324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00120" y="1504800"/>
            <a:ext cx="971712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REVENTIVN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539720" y="1814400"/>
            <a:ext cx="1219320" cy="1003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: Rounded Corners 8"/>
          <p:cNvSpPr/>
          <p:nvPr/>
        </p:nvSpPr>
        <p:spPr>
          <a:xfrm>
            <a:off x="10683720" y="138240"/>
            <a:ext cx="12193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rebuchet MS"/>
              </a:rPr>
              <a:t>05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AKUTNO TOKSIČNO DEJSTVO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196640" y="173808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Unošenje fluorida u relativno malim količinama </a:t>
            </a:r>
            <a:r>
              <a:rPr b="1" lang="sr-Latn-CS" sz="2400" spc="-1" strike="noStrike">
                <a:solidFill>
                  <a:srgbClr val="f45e44"/>
                </a:solidFill>
                <a:latin typeface="Trebuchet MS"/>
              </a:rPr>
              <a:t>2-5 g F</a:t>
            </a: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 može dovesti do letalnog ishoda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TRETMAN AKUTNOG TROVANJ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96640" y="208872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Terapija kod akutnog trovanja fluoridima je simptomatsk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izazvati povraćanje nekim emetikom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ispiranje želuca krečnom vodom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davanje mleka, jogurta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intravensko davanje kalcijum-glukonata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obavezna hospitalizacija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kod pacijenata u besvesnom stanju uspostaviti disanje i normalni rad KVS-a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HRONIČNO TROVANJE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196640" y="208872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Hronično toksično dejstvo fluorida nastaje dugogodišnjim svakodnevnim prekomernim unošenjem subakutnih doza fluorida u organizam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romene koje izaziva s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600" spc="-1" strike="noStrike">
                <a:solidFill>
                  <a:srgbClr val="f8f8f8"/>
                </a:solidFill>
                <a:latin typeface="Trebuchet MS"/>
              </a:rPr>
              <a:t>promene na licu – rani znakovi starenja (boranj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600" spc="-1" strike="noStrike">
                <a:solidFill>
                  <a:srgbClr val="f8f8f8"/>
                </a:solidFill>
                <a:latin typeface="Trebuchet MS"/>
              </a:rPr>
              <a:t>oštećenje nosne sluzokože (hemoragična kijavica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600" spc="-1" strike="noStrike">
                <a:solidFill>
                  <a:srgbClr val="f8f8f8"/>
                </a:solidFill>
                <a:latin typeface="Trebuchet MS"/>
              </a:rPr>
              <a:t>hronični faringitis i gastriti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600" spc="-1" strike="noStrike">
                <a:solidFill>
                  <a:srgbClr val="f8f8f8"/>
                </a:solidFill>
                <a:latin typeface="Trebuchet MS"/>
              </a:rPr>
              <a:t>toksična distrofija jetre (fluorotična hepatoza ili hepatomegalija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600" spc="-1" strike="noStrike">
                <a:solidFill>
                  <a:srgbClr val="f8f8f8"/>
                </a:solidFill>
                <a:latin typeface="Trebuchet MS"/>
              </a:rPr>
              <a:t>u vreme amelogeneze može da dovede do fluoroze zuba il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600" spc="-1" strike="noStrike">
                <a:solidFill>
                  <a:srgbClr val="f8f8f8"/>
                </a:solidFill>
                <a:latin typeface="Trebuchet MS"/>
              </a:rPr>
              <a:t>skeleten fluoroz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HRONIČNO TROVANJE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196640" y="208872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Fluoroza zuba je endemsko oboljenje koje nastaje kao posledica dugogodišnjeg unošenje prekomernih količina fluorida u vreme amelogeneze, najčešće putem vode za piće. Karakteriše je poroznost subpovršinskog sloja gleđi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Endemska skeletna fluoroza sa izraženim kliničkim manifestacijama se javlja u područjima gde su koncentracije fluorida u vodi za piće veće od 10ppm F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Kod dece sa endemskom fluorozom mogu se javiti različiti deformiteti koštanog sistema – x noge, povećan anteroposteriorni promer grudi, abnormalni oblik karlice, deformacije zglobova i lateralnog spajanja femur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KARIOSTATIČNO DEJSTVO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196640" y="189036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Dokazano je da se antikariogeni mehanizam fluorida ogleda u sledećem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DEJSTVO LOKALNO APLIKOVANIH FLUORIDA – uloga fluorida u precipitaciji različitih jedinjenja kalcijuma na površini zuba i uloga fluorida u procesima re- i demineralizacije zuba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000" spc="-1" strike="noStrike">
                <a:solidFill>
                  <a:srgbClr val="f8f8f8"/>
                </a:solidFill>
                <a:latin typeface="Trebuchet MS"/>
              </a:rPr>
              <a:t>INHIBITORNI EFEKAT FLUORIDA NA BAKTERIJE I NJIHOVE ENZIME. Osim što smanjuju kiselost sredine i deluju kao puferi, blokiraju metaboličke procese bakterija odgovornih za pojavu karijesa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000" spc="-1" strike="noStrike">
                <a:solidFill>
                  <a:srgbClr val="f8f8f8"/>
                </a:solidFill>
                <a:latin typeface="Trebuchet MS"/>
              </a:rPr>
              <a:t>ULOGA FLUORIDA U PRECIPITACIJI KALCIJUMA NA POVRŠINI ZUBA. U prisustvu fluorida dešava se precipitacija i taloženje novoformiranih minerala na površini gleđi koja postaje otpornija i slabije rastvorljiva zbog sledećih reakcija dikalcijum-fosfat-dihidrat + fluor = fluorhidroksiapatit hidroksiapatit + fluor = fluorhidroksiapatit ili fluoroapati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METODE PRIMENE FLUORID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96640" y="208872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Sistemska (endogen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Lokalna (egzogen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Na osnovu koncentracije fluorida u preparatim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Primena nisko koncentrovanih fluorida (fluorisana voda za piće, tableta sa fluoridima, fluorisano mleko)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Primena srednje koncentrovanih fluorida (fluorisana kuhinjska so, paste za zube, rastvori za ispiranje usta, želei za četkanje zuba)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Primena visoko koncentrovanih fluorida (rastvori, želei ili lakovi za premazivanje zuba, profilaktičke paste za mašinsko uklanjanje naslaga sa zuba)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VODA ZA PIĆE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96640" y="208872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Za fluorisanje vode za piće koris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Natrijum-fluorid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Natrijum-silikofluorid i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Silikofluorovodonična kiselina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TABLETE SA FLUOROM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96640" y="208872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reporučene doze</a:t>
            </a: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	</a:t>
            </a: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 ako se u vodi za piće nalazi </a:t>
            </a:r>
            <a:r>
              <a:rPr b="1" lang="sr-Latn-CS" sz="2400" spc="-1" strike="noStrike">
                <a:solidFill>
                  <a:srgbClr val="f45e44"/>
                </a:solidFill>
                <a:latin typeface="Trebuchet MS"/>
              </a:rPr>
              <a:t>&lt;0,3mgF/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kod dece od rođenja do druge godine ne preporučuje se davanje tableta sa fluoridima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kod dece od 2. do 6. godine preporučuje se 0,25mgF dnevno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kod dece od 7. do 18. godine preporučuje se 0,50mgF dnevno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MLEKO I KUHINJSKA SO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96640" y="208872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Koncentracija fluorida u mleku</a:t>
            </a: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	</a:t>
            </a: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u rasponu od</a:t>
            </a: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	</a:t>
            </a: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2,5mg</a:t>
            </a: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	</a:t>
            </a: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– 5,0 mgF/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Koncentracija fluorida u humanom mleku u rasponu od 0,02-0,03 ppmF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Fluorisana so se primenjuje u Francuskoj, Nemačkoj i Švajcarskoj - 250 mgF/k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Fluorisanje kuhinjske soli je dobra alternativa fluorisanju vod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45e44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45e44"/>
                </a:solidFill>
                <a:latin typeface="Trebuchet MS"/>
              </a:rPr>
              <a:t>Manje efikasna kod dece jer se preporučuje dijeta sa malo sol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LOKALNA PRIMEN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96640" y="208872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Visoko koncentrovani preparati fluora (ambulantna aplikacija rastvora, želea ili lakova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Srednje koncentrovani preparati (rastvori ili želei u okviru preventivnih programa u školama i obdaništima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Nisko koncentrovani preparati (za svakodnevnu kućnu upotrebu, paste za zube i rastvori za ispiranje usta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rebuchet MS"/>
              </a:rPr>
              <a:t>ISTORIJAT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654520" y="1661760"/>
            <a:ext cx="6477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rvi nagoveštaji primene fluorida u prevenciji karijesa javili su se još u drugoj polovini 19. veka kada je 1874.godine nemački lekar Erhardt napisao</a:t>
            </a:r>
            <a:r>
              <a:rPr b="1" lang="en-US" sz="2400" spc="-1" strike="noStrike">
                <a:solidFill>
                  <a:srgbClr val="f9a12a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1892.god. Crichton-Browne iz Engleske i Magitot iz Francuske iznose predpostavku da unošenje fluorida u vreme mineralizacije zuba dovodi do „stvaranja gleđi tvrde kao čelik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Ferber je 1900. god. zapazio da postoji direktan odnos između učestalosti karijesa i koncentracije fluorida u vodi za pić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GELOVI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96640" y="208872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Gelovi su preparati za profesionalna primenu. Preparati su koncentracije od 5000-12500ppm F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Ne primenjivati kod dece mlađe od 6 godina, jer je odnos „rizik - korist” veći u korist rizika od fluoroze zbog gutanj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rimenjivati u prevenciji karijesa u stalnoj denticij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PRAKTIČNI SAVETI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96640" y="208872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Koristiti 2 - 4 puta godišn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Ukloniti naslage plaka pre aplikacije gel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Zbog moguće toksičnosti kliničari bi trebalo da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koriste kašike odgovarajuće veličin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odgovarajući položaj pacijenta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detetu dozvole da ispljuvava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zube obrisati na kraju aplikacij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detetu objasniti da ne sme da jede i pije 20-30 minuta posle aplikacij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RASTVORI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96640" y="208872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raktični savet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Nadgledana primena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10 ml rastvora mućkati u ustima 1 minut detetu objasniti da ne sme da jede i pije 20-30 minuta posle aplikacij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LAKOVI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96640" y="2088720"/>
            <a:ext cx="10706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raktični savet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800" spc="-1" strike="noStrike">
                <a:solidFill>
                  <a:srgbClr val="f8f8f8"/>
                </a:solidFill>
                <a:latin typeface="Trebuchet MS"/>
              </a:rPr>
              <a:t>upotrebljavati 2-4 puta godišnj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800" spc="-1" strike="noStrike">
                <a:solidFill>
                  <a:srgbClr val="f8f8f8"/>
                </a:solidFill>
                <a:latin typeface="Trebuchet MS"/>
              </a:rPr>
              <a:t>naslage plaka ukloniti pre aplikacije lak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800" spc="-1" strike="noStrike">
                <a:solidFill>
                  <a:srgbClr val="f8f8f8"/>
                </a:solidFill>
                <a:latin typeface="Trebuchet MS"/>
              </a:rPr>
              <a:t>koristiti najmanju količinu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800" spc="-1" strike="noStrike">
                <a:solidFill>
                  <a:srgbClr val="f8f8f8"/>
                </a:solidFill>
                <a:latin typeface="Trebuchet MS"/>
              </a:rPr>
              <a:t>aplikovati samo na površine sa riziko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800" spc="-1" strike="noStrike">
                <a:solidFill>
                  <a:srgbClr val="f8f8f8"/>
                </a:solidFill>
                <a:latin typeface="Trebuchet MS"/>
              </a:rPr>
              <a:t>detetu objasniti da ne sme da jede i pije 20-30 minuta posle aplikacij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4200" spc="-1" strike="noStrike">
                <a:solidFill>
                  <a:srgbClr val="ffffff"/>
                </a:solidFill>
                <a:latin typeface="Trebuchet MS"/>
              </a:rPr>
              <a:t>PASTE ZA ZUBE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96640" y="1814400"/>
            <a:ext cx="1000116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80% ukupnog dnevnog unosa fluorid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Svakodnevno pranje zuba pastom sa fluoridima sprečava karij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ovećanjem frekvencije pranja zuba pastama sa fluoridima poboljšava prevenciju karijes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Nadzor odrasle osobe nad pranjem zuba dece poboljšava prevenciju karijes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aste za zube koje sadrže veće koncentracije fluorida efikasnije su od onih sa nižim koncentracijam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Započeto pranje zuba pre prve godine života umanjuje verovatnoću razvoja karijes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Gutanje paste za zube kod male dece</a:t>
            </a: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	</a:t>
            </a: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ovezano je sa povećanim rizikom od nastanka fluoroze zub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5"/>
          <p:cNvGrpSpPr/>
          <p:nvPr/>
        </p:nvGrpSpPr>
        <p:grpSpPr>
          <a:xfrm>
            <a:off x="5121360" y="1814400"/>
            <a:ext cx="2133360" cy="4572000"/>
            <a:chOff x="5121360" y="1814400"/>
            <a:chExt cx="2133360" cy="4572000"/>
          </a:xfrm>
        </p:grpSpPr>
        <p:pic>
          <p:nvPicPr>
            <p:cNvPr id="103" name="Picture 122" descr=""/>
            <p:cNvPicPr/>
            <p:nvPr/>
          </p:nvPicPr>
          <p:blipFill>
            <a:blip r:embed="rId1">
              <a:lum bright="100000"/>
            </a:blip>
            <a:srcRect l="0" t="17329" r="0" b="0"/>
            <a:stretch/>
          </p:blipFill>
          <p:spPr>
            <a:xfrm>
              <a:off x="5197320" y="2500200"/>
              <a:ext cx="2057400" cy="17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AutoShape 59"/>
            <p:cNvSpPr/>
            <p:nvPr/>
          </p:nvSpPr>
          <p:spPr>
            <a:xfrm>
              <a:off x="5197320" y="1814400"/>
              <a:ext cx="2057400" cy="304560"/>
            </a:xfrm>
            <a:prstGeom prst="roundRect">
              <a:avLst>
                <a:gd name="adj" fmla="val 50000"/>
              </a:avLst>
            </a:prstGeom>
            <a:solidFill>
              <a:srgbClr val="2e98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200" spc="-1" strike="noStrike">
                  <a:solidFill>
                    <a:srgbClr val="000000"/>
                  </a:solidFill>
                  <a:latin typeface="Trebuchet MS"/>
                </a:rPr>
                <a:t>2 DO 6 GODINA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AutoShape 59"/>
            <p:cNvSpPr/>
            <p:nvPr/>
          </p:nvSpPr>
          <p:spPr>
            <a:xfrm>
              <a:off x="5121360" y="4633920"/>
              <a:ext cx="2133360" cy="30456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200" spc="-1" strike="noStrike">
                  <a:solidFill>
                    <a:srgbClr val="000000"/>
                  </a:solidFill>
                  <a:latin typeface="Trebuchet MS"/>
                </a:rPr>
                <a:t>1000 PPM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AutoShape 59"/>
            <p:cNvSpPr/>
            <p:nvPr/>
          </p:nvSpPr>
          <p:spPr>
            <a:xfrm>
              <a:off x="5121360" y="5091120"/>
              <a:ext cx="2133360" cy="30456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200" spc="-1" strike="noStrike">
                  <a:solidFill>
                    <a:srgbClr val="000000"/>
                  </a:solidFill>
                  <a:latin typeface="Trebuchet MS"/>
                </a:rPr>
                <a:t>DVA PUTA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107" name="Picture 23" descr=""/>
            <p:cNvPicPr/>
            <p:nvPr/>
          </p:nvPicPr>
          <p:blipFill>
            <a:blip r:embed="rId2"/>
            <a:stretch/>
          </p:blipFill>
          <p:spPr>
            <a:xfrm>
              <a:off x="5883120" y="5624640"/>
              <a:ext cx="761760" cy="76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5"/>
          <p:cNvGrpSpPr/>
          <p:nvPr/>
        </p:nvGrpSpPr>
        <p:grpSpPr>
          <a:xfrm>
            <a:off x="1463760" y="1814400"/>
            <a:ext cx="2133360" cy="4572000"/>
            <a:chOff x="1463760" y="1814400"/>
            <a:chExt cx="2133360" cy="4572000"/>
          </a:xfrm>
        </p:grpSpPr>
        <p:pic>
          <p:nvPicPr>
            <p:cNvPr id="109" name="Picture 123" descr=""/>
            <p:cNvPicPr/>
            <p:nvPr/>
          </p:nvPicPr>
          <p:blipFill>
            <a:blip r:embed="rId3">
              <a:lum bright="100000"/>
            </a:blip>
            <a:stretch/>
          </p:blipFill>
          <p:spPr>
            <a:xfrm>
              <a:off x="1539720" y="2347560"/>
              <a:ext cx="20574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AutoShape 59"/>
            <p:cNvSpPr/>
            <p:nvPr/>
          </p:nvSpPr>
          <p:spPr>
            <a:xfrm>
              <a:off x="1463760" y="1814400"/>
              <a:ext cx="2133360" cy="304560"/>
            </a:xfrm>
            <a:prstGeom prst="roundRect">
              <a:avLst>
                <a:gd name="adj" fmla="val 50000"/>
              </a:avLst>
            </a:prstGeom>
            <a:solidFill>
              <a:srgbClr val="2e98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200" spc="-1" strike="noStrike">
                  <a:solidFill>
                    <a:srgbClr val="000000"/>
                  </a:solidFill>
                  <a:latin typeface="Trebuchet MS"/>
                </a:rPr>
                <a:t>6 MESECI DO 2 GODINE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AutoShape 59"/>
            <p:cNvSpPr/>
            <p:nvPr/>
          </p:nvSpPr>
          <p:spPr>
            <a:xfrm>
              <a:off x="1463760" y="4633920"/>
              <a:ext cx="2133360" cy="30456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200" spc="-1" strike="noStrike">
                  <a:solidFill>
                    <a:srgbClr val="000000"/>
                  </a:solidFill>
                  <a:latin typeface="Trebuchet MS"/>
                </a:rPr>
                <a:t>1000 PPM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AutoShape 59"/>
            <p:cNvSpPr/>
            <p:nvPr/>
          </p:nvSpPr>
          <p:spPr>
            <a:xfrm>
              <a:off x="1463760" y="5091120"/>
              <a:ext cx="2133360" cy="30456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200" spc="-1" strike="noStrike">
                  <a:solidFill>
                    <a:srgbClr val="000000"/>
                  </a:solidFill>
                  <a:latin typeface="Trebuchet MS"/>
                </a:rPr>
                <a:t>DVA PUTA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113" name="Picture 24" descr=""/>
            <p:cNvPicPr/>
            <p:nvPr/>
          </p:nvPicPr>
          <p:blipFill>
            <a:blip r:embed="rId4"/>
            <a:stretch/>
          </p:blipFill>
          <p:spPr>
            <a:xfrm>
              <a:off x="2149560" y="5624640"/>
              <a:ext cx="761760" cy="76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Group 26"/>
          <p:cNvGrpSpPr/>
          <p:nvPr/>
        </p:nvGrpSpPr>
        <p:grpSpPr>
          <a:xfrm>
            <a:off x="8397720" y="1814400"/>
            <a:ext cx="2210040" cy="4800600"/>
            <a:chOff x="8397720" y="1814400"/>
            <a:chExt cx="2210040" cy="4800600"/>
          </a:xfrm>
        </p:grpSpPr>
        <p:pic>
          <p:nvPicPr>
            <p:cNvPr id="115" name="Picture 121" descr=""/>
            <p:cNvPicPr/>
            <p:nvPr/>
          </p:nvPicPr>
          <p:blipFill>
            <a:blip r:embed="rId5"/>
            <a:stretch/>
          </p:blipFill>
          <p:spPr>
            <a:xfrm>
              <a:off x="8626320" y="2423880"/>
              <a:ext cx="1978560" cy="19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AutoShape 59"/>
            <p:cNvSpPr/>
            <p:nvPr/>
          </p:nvSpPr>
          <p:spPr>
            <a:xfrm>
              <a:off x="8473680" y="1814400"/>
              <a:ext cx="2134080" cy="304560"/>
            </a:xfrm>
            <a:prstGeom prst="roundRect">
              <a:avLst>
                <a:gd name="adj" fmla="val 50000"/>
              </a:avLst>
            </a:prstGeom>
            <a:solidFill>
              <a:srgbClr val="2e98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200" spc="-1" strike="noStrike">
                  <a:solidFill>
                    <a:srgbClr val="000000"/>
                  </a:solidFill>
                  <a:latin typeface="Trebuchet MS"/>
                </a:rPr>
                <a:t>PREKO 6 GODINA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AutoShape 59"/>
            <p:cNvSpPr/>
            <p:nvPr/>
          </p:nvSpPr>
          <p:spPr>
            <a:xfrm>
              <a:off x="8397720" y="4633920"/>
              <a:ext cx="2134080" cy="30456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200" spc="-1" strike="noStrike">
                  <a:solidFill>
                    <a:srgbClr val="000000"/>
                  </a:solidFill>
                  <a:latin typeface="Trebuchet MS"/>
                </a:rPr>
                <a:t>1450 PPM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AutoShape 59"/>
            <p:cNvSpPr/>
            <p:nvPr/>
          </p:nvSpPr>
          <p:spPr>
            <a:xfrm>
              <a:off x="8397720" y="5091120"/>
              <a:ext cx="2134080" cy="30456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200" spc="-1" strike="noStrike">
                  <a:solidFill>
                    <a:srgbClr val="000000"/>
                  </a:solidFill>
                  <a:latin typeface="Trebuchet MS"/>
                </a:rPr>
                <a:t>DVA PUTA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119" name="Picture 4" descr=""/>
            <p:cNvPicPr/>
            <p:nvPr/>
          </p:nvPicPr>
          <p:blipFill>
            <a:blip r:embed="rId6"/>
            <a:stretch/>
          </p:blipFill>
          <p:spPr>
            <a:xfrm>
              <a:off x="8778600" y="5319720"/>
              <a:ext cx="129564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4200" spc="-1" strike="noStrike">
                <a:solidFill>
                  <a:srgbClr val="ffffff"/>
                </a:solidFill>
                <a:latin typeface="Trebuchet MS"/>
              </a:rPr>
              <a:t>PASTE ZA ZUBE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>
    <p:comb dir="ver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SVOJSTVA FLUORID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578560" y="2088720"/>
            <a:ext cx="561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Jedinstveno izražavanje količine fluora u nekoj tečnosti se vrši u ppm (parts per million) što odgovara miligramu fluora na litar tečnosti ili mg F/k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Koncentracija fluora se u rastvorima može izrazit u procentima 1% fluora = 10.000ppm F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RASPROSTRANJENOST FLUORID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96960" y="2134800"/>
            <a:ext cx="60008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Zahvaljujući prisustvu fluorida u Zemljinoj kori ne postoji voda koja ne sadrži fluorid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Voda za piće najčešće sadrži manje od 0,3ppm F. Optimalna koncentracija fluora u vodi za piće je 0,7 ppmF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Fluoridi se u vazduhu mogu naći u vidu čestica ili gas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RASPROSTRANJENOST FLUORID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96640" y="208872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Srednja vrednost fluorida se kreće od 0,1 do 1,0 mg F/k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BIOKINETIKA FLUORID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96640" y="208872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Koncentracija fluorida u krvi se kreće od 0,01-0,05 mgF/l. Zavisi od količine unete doze, telesne težine osobe kao i njene starosti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Koncentracija fluora u ,,čistoj pljuvački” (uzorci uzeti direktno iz izvodnih kanalića pljuvačnih žlezda) se kreće od 0,2 - 3mgF/l i direktno zavisi od njegove koncentracije u krvi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Koncentracija fluora u plakama od 5-50mgF/l zavisi od njihove količine u pljuvački, površinskim slojevima gleđi zuba i količine dentalnog plak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KONCENTRACIJA U ZUBNIM TKIVIM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196640" y="208872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U gleđi je najveća u površinskim slojevima i smanjuje se ka gleđno-dentinskoj granici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U dentinu je 3-4 puta veća nego u gleđi, najveća u slojevima najbližim pulpi (predentinu) jer se fluoridi stalno dopremaju putem krvi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Najveća u cementnom tkivu zato što je najsličnije koštanom tkivu, zbog izloženosti tkivnim tečnostima kao i male debljine cement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45e44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45e44"/>
                </a:solidFill>
                <a:latin typeface="Trebuchet MS"/>
              </a:rPr>
              <a:t>Humana placenta ne predstavlja barijeru prolasku fluorida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ELIMINACIJA FLUOR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96640" y="208872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Najvećim delom putem urina  (60-70%) bubrežnom filtracijom, putem fecesa (15%) kao i putem znoja, suza ili majčinog mlek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Koncentracija fluorida u urinu predstavlja najbolji indikator količini unetih fluorida u organiza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196960" y="2088720"/>
            <a:ext cx="66294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Doza fluorid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fiziološka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farmakološka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toksična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Toksično dejstv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akutno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hronično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U zavisnosti od okolnosti nastanka akutno trovanje može bit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slučajno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samoubilačko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kriminalno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91116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TOKSIKOLOGIJA FLUORIDA</a:t>
            </a:r>
            <a:endParaRPr b="0" lang="en-US" sz="4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7T17:20:45Z</dcterms:modified>
  <cp:revision>571</cp:revision>
  <dc:subject/>
  <dc:title>RTG U DEČJOJ STOMATOLOGIJI</dc:title>
</cp:coreProperties>
</file>